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88792-4AF1-4C02-A58C-31B9D815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78A88-8E99-44D4-AE62-FCF43ED0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11DB-60CF-4D68-9F48-800025DC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A4F7-4E23-4F73-8815-B09A7073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5B15-17F2-4074-983E-CD2FA2AE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DBB2-DCA7-4554-AB55-DFB0A287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A3E9-D354-4B3F-B112-B491A4E4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47F4-F893-4746-9A43-737E488D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38A4-8E51-4A62-90C5-87262ED5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31E1-F92A-41E5-8BA1-D06C9700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5BA3-8FAB-448A-9B3A-91600268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C0E8B-D7C7-426F-8C9A-36712A76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9091-37B7-42C2-9791-781C3ED5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F556-4168-442F-81B7-DC817360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B6C5-43E5-4BB3-93FF-9D569320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A398-53E3-4ECE-B6E3-0C11B1CF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2889-70E8-418C-84B5-205BF515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3E5F-3CA1-48AD-A492-FEE851B6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2B06F-6DCF-4E08-9AEF-231924AA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24AF-E574-4067-B46F-7171E5EE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2DE07-D703-4089-8E79-C59C5B69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24FC7-A85F-4ACC-B95A-854625D5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A679D-DFB7-45B7-951C-92149C1E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9FF98-57BD-4054-B7B6-9C074E6A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D2F1-5C88-4789-BF4D-92675C79D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9EDF-4CBA-47E3-AA12-69777FD9DC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empus Sans ITC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mpus Sans ITC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empus Sans 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ecphysicalscience.wikispaces.com/Roller+Coasters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cectheforum.wikispaces.com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ecchinesescholarsgardens.wikispaces.com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aganonline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empus Sans ITC"/>
              </a:rPr>
              <a:t>Tapping Into Multiple Intelligences through Cooperative Learning</a:t>
            </a:r>
            <a:br>
              <a:rPr sz="4600"/>
            </a:br>
            <a:endParaRPr b="0" lang="en-US" sz="4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28600" y="434340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empus Sans ITC"/>
              </a:rPr>
              <a:t>Presented To CCC Faculty by Craven Early College Instructors</a:t>
            </a:r>
            <a:endParaRPr b="0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empus Sans ITC"/>
              </a:rPr>
              <a:t>Jill Darrough, Leah Shore, Kathi Whitfield</a:t>
            </a:r>
            <a:endParaRPr b="0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empus Sans ITC"/>
              </a:rPr>
              <a:t>October 9, 2009</a:t>
            </a:r>
            <a:endParaRPr b="0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empus Sans ITC"/>
              </a:rPr>
              <a:t>9:00 – 12:00</a:t>
            </a:r>
            <a:endParaRPr b="0" lang="en-US" sz="26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lassroom Management Styles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74600" y="2057400"/>
          <a:ext cx="6996240" cy="4356000"/>
        </p:xfrm>
        <a:graphic>
          <a:graphicData uri="http://schemas.openxmlformats.org/drawingml/2006/table">
            <a:tbl>
              <a:tblPr/>
              <a:tblGrid>
                <a:gridCol w="2332080"/>
                <a:gridCol w="2332080"/>
                <a:gridCol w="2332080"/>
              </a:tblGrid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cher 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radi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cher 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cher 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Cooperative Te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3:  Structures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156924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Gallery Walk Feedback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43200"/>
            <a:ext cx="7696080" cy="1295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Team Name: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Project Name: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Project Description: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57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4343400"/>
          <a:ext cx="7772400" cy="2165400"/>
        </p:xfrm>
        <a:graphic>
          <a:graphicData uri="http://schemas.openxmlformats.org/drawingml/2006/table">
            <a:tbl>
              <a:tblPr/>
              <a:tblGrid>
                <a:gridCol w="4038480"/>
                <a:gridCol w="373392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m 1   Name: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empus Sans ITC"/>
                          <a:ea typeface="Times New Roman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m Feedbac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m 2   Name: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empus Sans ITC"/>
                          <a:ea typeface="Times New Roman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m Feedbac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m 3   Name: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empus Sans ITC"/>
                          <a:ea typeface="Times New Roman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m Feedbac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m 4   Name: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empus Sans ITC"/>
                          <a:ea typeface="Times New Roman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m Feedbac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4: Teambuilding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Find the Fictio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olo write 3 statements about yourself on your board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1 statement must be fiction and 2 statements must be fact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Flip board over to signal that you are ready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Designate a student to “go first”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student designated to go first will reveal their 3 statements. 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teammates will choose the fiction and reveal simultaneously. (Showdown!)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Celebrate!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4: Teambuilding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3 characteristics: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2819520"/>
            <a:ext cx="2133360" cy="24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2819520"/>
            <a:ext cx="2133720" cy="24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2819520"/>
            <a:ext cx="2133720" cy="24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empus Sans ITC"/>
              </a:rPr>
              <a:t>E               Z</a:t>
            </a:r>
            <a:endParaRPr b="0" lang="en-US" sz="3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empus Sans ITC"/>
              </a:rPr>
              <a:t>LOW</a:t>
            </a:r>
            <a:endParaRPr b="0" lang="en-US" sz="3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2971800"/>
            <a:ext cx="1218960" cy="1371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empus Sans ITC"/>
              </a:rPr>
              <a:t>FUN!</a:t>
            </a:r>
            <a:endParaRPr b="0" lang="en-US" sz="3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3" name=""/>
          <p:cNvSpPr/>
          <p:nvPr/>
        </p:nvSpPr>
        <p:spPr>
          <a:xfrm>
            <a:off x="1892160" y="4343400"/>
            <a:ext cx="927360" cy="685800"/>
          </a:xfrm>
          <a:custGeom>
            <a:avLst/>
            <a:gdLst/>
            <a:ahLst/>
            <a:rect l="l" t="t" r="r" b="b"/>
            <a:pathLst>
              <a:path w="584" h="432">
                <a:moveTo>
                  <a:pt x="248" y="0"/>
                </a:moveTo>
                <a:cubicBezTo>
                  <a:pt x="124" y="84"/>
                  <a:pt x="0" y="168"/>
                  <a:pt x="56" y="240"/>
                </a:cubicBezTo>
                <a:cubicBezTo>
                  <a:pt x="112" y="312"/>
                  <a:pt x="496" y="400"/>
                  <a:pt x="584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4" name=""/>
          <p:cNvSpPr/>
          <p:nvPr/>
        </p:nvSpPr>
        <p:spPr>
          <a:xfrm rot="5226600">
            <a:off x="1828080" y="4495680"/>
            <a:ext cx="228600" cy="381240"/>
          </a:xfrm>
          <a:prstGeom prst="flowChartCollat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5" name=""/>
          <p:cNvSpPr/>
          <p:nvPr/>
        </p:nvSpPr>
        <p:spPr>
          <a:xfrm rot="5226600">
            <a:off x="2285280" y="4724280"/>
            <a:ext cx="228600" cy="381240"/>
          </a:xfrm>
          <a:prstGeom prst="flowChartCollat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0" b="58408"/>
          <a:stretch/>
        </p:blipFill>
        <p:spPr>
          <a:xfrm>
            <a:off x="4191120" y="3505320"/>
            <a:ext cx="1100160" cy="750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09880" y="3048120"/>
            <a:ext cx="1752840" cy="1828800"/>
          </a:xfrm>
          <a:prstGeom prst="noSmoking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3352680"/>
            <a:ext cx="1066680" cy="99072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5: Class Building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illy Sport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Quiz – Quiz - Trade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Each student gets a question card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Stand Up – Hand Up – Pair Up…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Decide who is “going first”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That student reads and shows the question to their partner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Their partner answers the question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The student praises and/or coaches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Repeat the process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Trade cards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Departing salutation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5: Class Building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3 characteristics: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2819520"/>
            <a:ext cx="2133360" cy="24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819520"/>
            <a:ext cx="2133720" cy="24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819520"/>
            <a:ext cx="2133720" cy="24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371600" y="48006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48006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3200400"/>
            <a:ext cx="0" cy="16765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 flipH="1" rot="1913400">
            <a:off x="5181480" y="433080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 flipH="1" rot="6787800">
            <a:off x="3961800" y="3353400"/>
            <a:ext cx="317160" cy="309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 flipH="1" rot="8530800">
            <a:off x="3962160" y="411444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 flipH="1" rot="179400">
            <a:off x="4571640" y="373320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 flipH="1" rot="10800000">
            <a:off x="5105520" y="320040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 flipH="1" rot="10800000">
            <a:off x="4648320" y="419112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 flipH="1" rot="10800000">
            <a:off x="4419720" y="464832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 flipH="1" rot="1992000">
            <a:off x="3657240" y="457128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 flipH="1" rot="8631600">
            <a:off x="3733920" y="297144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0"/>
          <a:stretch/>
        </p:blipFill>
        <p:spPr>
          <a:xfrm flipH="1" rot="10800000">
            <a:off x="4495680" y="289548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1"/>
          <a:stretch/>
        </p:blipFill>
        <p:spPr>
          <a:xfrm flipH="1" rot="7152600">
            <a:off x="3656880" y="3810240"/>
            <a:ext cx="317160" cy="309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2"/>
          <a:stretch/>
        </p:blipFill>
        <p:spPr>
          <a:xfrm flipH="1" rot="12792000">
            <a:off x="5105520" y="365724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3"/>
          <a:stretch/>
        </p:blipFill>
        <p:spPr>
          <a:xfrm flipH="1" rot="20260800">
            <a:off x="4876560" y="4723560"/>
            <a:ext cx="317520" cy="309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4"/>
          <a:stretch/>
        </p:blipFill>
        <p:spPr>
          <a:xfrm flipH="1" rot="10800000">
            <a:off x="4495680" y="3276720"/>
            <a:ext cx="317520" cy="309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172200" y="32004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33526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3505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36576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38098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3048120"/>
            <a:ext cx="762120" cy="53316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39625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4" name=""/>
          <p:cNvSpPr/>
          <p:nvPr/>
        </p:nvSpPr>
        <p:spPr>
          <a:xfrm>
            <a:off x="7086600" y="41148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5" name=""/>
          <p:cNvSpPr/>
          <p:nvPr/>
        </p:nvSpPr>
        <p:spPr>
          <a:xfrm>
            <a:off x="7238880" y="42670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44197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45720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8" name=""/>
          <p:cNvSpPr/>
          <p:nvPr/>
        </p:nvSpPr>
        <p:spPr>
          <a:xfrm>
            <a:off x="6781680" y="29718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39625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41148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1" name=""/>
          <p:cNvSpPr/>
          <p:nvPr/>
        </p:nvSpPr>
        <p:spPr>
          <a:xfrm>
            <a:off x="6477120" y="42670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44197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3" name=""/>
          <p:cNvSpPr/>
          <p:nvPr/>
        </p:nvSpPr>
        <p:spPr>
          <a:xfrm>
            <a:off x="6781680" y="45720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4" name=""/>
          <p:cNvSpPr/>
          <p:nvPr/>
        </p:nvSpPr>
        <p:spPr>
          <a:xfrm>
            <a:off x="6934320" y="47242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48769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44956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28954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38098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9" name=""/>
          <p:cNvSpPr/>
          <p:nvPr/>
        </p:nvSpPr>
        <p:spPr>
          <a:xfrm>
            <a:off x="6934320" y="31240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32767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34290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2" name=""/>
          <p:cNvSpPr/>
          <p:nvPr/>
        </p:nvSpPr>
        <p:spPr>
          <a:xfrm>
            <a:off x="7391520" y="35812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37339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4" name=""/>
          <p:cNvSpPr/>
          <p:nvPr/>
        </p:nvSpPr>
        <p:spPr>
          <a:xfrm>
            <a:off x="7696080" y="38862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30481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6" name=""/>
          <p:cNvSpPr/>
          <p:nvPr/>
        </p:nvSpPr>
        <p:spPr>
          <a:xfrm>
            <a:off x="7772400" y="32004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4648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48006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6: Management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olo Write Reflection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252540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Wha’ yah Pakin?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43" name="MCj03574570000[1]" descr=""/>
          <p:cNvPicPr/>
          <p:nvPr/>
        </p:nvPicPr>
        <p:blipFill>
          <a:blip r:embed="rId1"/>
          <a:stretch/>
        </p:blipFill>
        <p:spPr>
          <a:xfrm>
            <a:off x="6781680" y="2057400"/>
            <a:ext cx="16002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-360"/>
            <a:ext cx="84582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  <a:ea typeface="Calibri"/>
              </a:rPr>
              <a:t>Desired Outcomes: Upon completion of this staff development participants will have: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  <a:ea typeface="Arial"/>
              </a:rPr>
              <a:t>An opportunity to learn more about CCC colleagues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  <a:ea typeface="Arial"/>
              </a:rPr>
              <a:t>More tools to create classes that tap into multiple intelligences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  <a:ea typeface="Arial"/>
              </a:rPr>
              <a:t>More tools to create classes that use cooperative learning activities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  <a:ea typeface="Arial"/>
              </a:rPr>
              <a:t>An opportunity to learn in a brain friendly environment (novelty, nourishment, safety)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  <a:ea typeface="Arial"/>
              </a:rPr>
              <a:t>More information about Craven Early College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971800"/>
          <a:ext cx="8229600" cy="3343320"/>
        </p:xfrm>
        <a:graphic>
          <a:graphicData uri="http://schemas.openxmlformats.org/drawingml/2006/table">
            <a:tbl>
              <a:tblPr/>
              <a:tblGrid>
                <a:gridCol w="2793960"/>
                <a:gridCol w="2768760"/>
                <a:gridCol w="266688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 (minut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t Ups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lco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ti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fe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ound Rul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ired Outcom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n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Whitfie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ckgroun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Whitfie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Keys Concepts for Succes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Darrough &amp; L. Sh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1: Basic Principles - P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Darrough &amp; L. Sh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 Up – Hand Up – Pair U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Whitfie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2: Tea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Dar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room Management Styles: PIG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Dar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a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empus Sans ITC"/>
                <a:ea typeface="Calibri"/>
              </a:rPr>
              <a:t>Tapping into Multiple Intelligenc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empus Sans ITC"/>
                <a:ea typeface="Calibri"/>
              </a:rPr>
              <a:t>@ C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buClr>
                <a:srgbClr val="666699"/>
              </a:buClr>
              <a:buSzPct val="75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6699"/>
                </a:solidFill>
                <a:uFillTx/>
                <a:latin typeface="Tempus Sans ITC"/>
                <a:ea typeface="Calibri"/>
                <a:hlinkClick r:id="rId1" action="ppaction://hlinksldjump"/>
              </a:rPr>
              <a:t>K. Whitfield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buClr>
                <a:srgbClr val="666699"/>
              </a:buClr>
              <a:buSzPct val="75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6699"/>
                </a:solidFill>
                <a:uFillTx/>
                <a:latin typeface="Tempus Sans ITC"/>
                <a:ea typeface="Calibri"/>
                <a:hlinkClick r:id="rId2" action="ppaction://hlinksldjump"/>
              </a:rPr>
              <a:t>L. Shore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buClr>
                <a:srgbClr val="666699"/>
              </a:buClr>
              <a:buSzPct val="75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6699"/>
                </a:solidFill>
                <a:uFillTx/>
                <a:latin typeface="Tempus Sans ITC"/>
                <a:ea typeface="Calibri"/>
                <a:hlinkClick r:id="rId3" action="ppaction://hlinksldjump"/>
              </a:rPr>
              <a:t>J. Darrough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Physical Science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Tempus Sans ITC"/>
                <a:hlinkClick r:id="rId1"/>
              </a:rPr>
              <a:t>Roller Coasters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The Forum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Tempus Sans ITC"/>
                <a:hlinkClick r:id="rId1"/>
              </a:rPr>
              <a:t>Citizenship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World Dynamics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Tempus Sans ITC"/>
                <a:hlinkClick r:id="rId1"/>
              </a:rPr>
              <a:t>CEC Scholar’s Gardens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7:  Social Skills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What social skills are needed in today’s work place?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7:  Social Skills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Jot Thoughts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eacher names a topic, sets a time limit, and provides think time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tudents write and announce their responses on Post-It notes (one idea per note)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Note is placed in the center of the table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tudents attempt to cover the table (notes should not overlap)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7:  Social Skills, Cont.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What social skills are lacking in CCC students? 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7:  Social Skills, Cont.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Rally Robin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eacher poses a problem/question with multiple responses, sets a time limit, and provides think time.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tudents take turns with their shoulder partner stating their responses.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Characteristics of Our Youth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Kids who have high self-esteem.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Community focused.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A world without boundaries.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Entertainment driven.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Multitasking.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echnology.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Find Someone Who…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SUHUPU…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Designate who “goes first” (partner A)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A: chooses a question from B’s handout that A will answer for B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B: record A’s response on their own handout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A: checks B’s response and initials that it is correct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B: expresses gratitude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Repeat the process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Departing salutation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Repeat the entire process until the handout is completed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Return to your assigned seat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When all teammates are finished use a RoundRobin to compare responses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80880" y="685800"/>
          <a:ext cx="8305920" cy="5714640"/>
        </p:xfrm>
        <a:graphic>
          <a:graphicData uri="http://schemas.openxmlformats.org/drawingml/2006/table">
            <a:tbl>
              <a:tblPr/>
              <a:tblGrid>
                <a:gridCol w="2590920"/>
                <a:gridCol w="2971800"/>
                <a:gridCol w="2743200"/>
              </a:tblGrid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3: Structur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llery Wal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 Sh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4: Teambuild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d the Fic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Dar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5: Class Build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ly Spor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 Sh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iz – Quiz – Tra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Whitfie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a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6: Manageme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o Write Reflec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Dar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pping into Multiple Intelligences @ CE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Whitfield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 Shore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Dar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7: Social Skill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t Though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 Sh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acteristics of Our Yout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 Sh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d Someone Wh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Dar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xt Step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Whitfie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D Evalu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us/Del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Whitfie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1981080"/>
          <a:ext cx="8229600" cy="4233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Tempus Sans ITC"/>
                <a:hlinkClick r:id="rId1"/>
              </a:rPr>
              <a:t>www.KaganOnline.com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Multiple Intelligences Theory:  Three Visions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empus Sans ITC"/>
              </a:rPr>
              <a:t>1 – Matching</a:t>
            </a:r>
            <a:endParaRPr b="0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empus Sans ITC"/>
              </a:rPr>
              <a:t>2 – Stretching</a:t>
            </a:r>
            <a:endParaRPr b="0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empus Sans ITC"/>
              </a:rPr>
              <a:t>3 - Celebrating</a:t>
            </a:r>
            <a:endParaRPr b="0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Seven Key Concepts for Success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371240" y="1707480"/>
            <a:ext cx="6172560" cy="4859640"/>
            <a:chOff x="1371240" y="1707480"/>
            <a:chExt cx="6172560" cy="4859640"/>
          </a:xfrm>
        </p:grpSpPr>
        <p:grpSp>
          <p:nvGrpSpPr>
            <p:cNvPr id="115" name=""/>
            <p:cNvGrpSpPr/>
            <p:nvPr/>
          </p:nvGrpSpPr>
          <p:grpSpPr>
            <a:xfrm>
              <a:off x="1371240" y="1707480"/>
              <a:ext cx="6172560" cy="4859640"/>
              <a:chOff x="1371240" y="1707480"/>
              <a:chExt cx="6172560" cy="4859640"/>
            </a:xfrm>
          </p:grpSpPr>
          <p:sp>
            <p:nvSpPr>
              <p:cNvPr id="116" name=""/>
              <p:cNvSpPr/>
              <p:nvPr/>
            </p:nvSpPr>
            <p:spPr>
              <a:xfrm>
                <a:off x="1371600" y="1707480"/>
                <a:ext cx="6172200" cy="4859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371240" y="4137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227040" y="2006280"/>
                <a:ext cx="2460960" cy="426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flipV="1">
                <a:off x="3188880" y="2037240"/>
                <a:ext cx="2460960" cy="426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00400" y="3202560"/>
                <a:ext cx="2438280" cy="1775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3733560" y="4043880"/>
              <a:ext cx="1485720" cy="18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empus Sans ITC"/>
                </a:rPr>
                <a:t>Structures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empus Sans ITC"/>
                <a:ea typeface="Tempus Sans ITC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1752480" y="4884840"/>
              <a:ext cx="1485720" cy="18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empus Sans ITC"/>
                </a:rPr>
                <a:t>Social Skills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empus Sans ITC"/>
                <a:ea typeface="Tempus Sans ITC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5562360" y="3202560"/>
              <a:ext cx="1485720" cy="18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empus Sans ITC"/>
                </a:rPr>
                <a:t>Class Building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empus Sans ITC"/>
                <a:ea typeface="Tempus Sans ITC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5562360" y="4884840"/>
              <a:ext cx="1485720" cy="18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empus Sans ITC"/>
                </a:rPr>
                <a:t>Team Building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empus Sans ITC"/>
                <a:ea typeface="Tempus Sans ITC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1752480" y="3202560"/>
              <a:ext cx="1485720" cy="18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empus Sans ITC"/>
                </a:rPr>
                <a:t>Principles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empus Sans ITC"/>
                <a:ea typeface="Tempus Sans ITC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3657600" y="5819400"/>
              <a:ext cx="1485720" cy="18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empus Sans ITC"/>
                </a:rPr>
                <a:t>Management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empus Sans ITC"/>
                <a:ea typeface="Tempus Sans ITC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3886200" y="2361600"/>
              <a:ext cx="1104840" cy="18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empus Sans ITC"/>
                </a:rPr>
                <a:t>Teams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empus Sans ITC"/>
                <a:ea typeface="Tempus Sans ITC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Key 1:  4 Basic Princi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P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I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I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 A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P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I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24382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nterdependence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4382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sitive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32" name="j033997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771480" cy="905040"/>
          </a:xfrm>
          <a:prstGeom prst="rect">
            <a:avLst/>
          </a:prstGeom>
          <a:ln w="0">
            <a:noFill/>
          </a:ln>
        </p:spPr>
      </p:pic>
      <p:pic>
        <p:nvPicPr>
          <p:cNvPr id="133" name="j0339964" descr=""/>
          <p:cNvPicPr/>
          <p:nvPr/>
        </p:nvPicPr>
        <p:blipFill>
          <a:blip r:embed="rId2"/>
          <a:stretch/>
        </p:blipFill>
        <p:spPr>
          <a:xfrm>
            <a:off x="3352680" y="5410080"/>
            <a:ext cx="533520" cy="895320"/>
          </a:xfrm>
          <a:prstGeom prst="rect">
            <a:avLst/>
          </a:prstGeom>
          <a:ln w="0">
            <a:noFill/>
          </a:ln>
        </p:spPr>
      </p:pic>
      <p:pic>
        <p:nvPicPr>
          <p:cNvPr id="134" name="j0339956" descr=""/>
          <p:cNvPicPr/>
          <p:nvPr/>
        </p:nvPicPr>
        <p:blipFill>
          <a:blip r:embed="rId3"/>
          <a:stretch/>
        </p:blipFill>
        <p:spPr>
          <a:xfrm>
            <a:off x="4572000" y="5410080"/>
            <a:ext cx="695160" cy="895320"/>
          </a:xfrm>
          <a:prstGeom prst="rect">
            <a:avLst/>
          </a:prstGeom>
          <a:ln w="0">
            <a:noFill/>
          </a:ln>
        </p:spPr>
      </p:pic>
      <p:pic>
        <p:nvPicPr>
          <p:cNvPr id="135" name="j0339984" descr=""/>
          <p:cNvPicPr/>
          <p:nvPr/>
        </p:nvPicPr>
        <p:blipFill>
          <a:blip r:embed="rId4"/>
          <a:stretch/>
        </p:blipFill>
        <p:spPr>
          <a:xfrm>
            <a:off x="5791320" y="5410080"/>
            <a:ext cx="895320" cy="905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3124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ndividual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441972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nteraction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3124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ccountability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8098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articipation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1" name=""/>
          <p:cNvSpPr/>
          <p:nvPr/>
        </p:nvSpPr>
        <p:spPr>
          <a:xfrm>
            <a:off x="-152280" y="38098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qual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44956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imultaneous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Stand Up – Hand Up – Pair Up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Everyone stands up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Everyone raises their hand high with a locked elbow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Everyone walks around until prompted to or finds a partner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Greet your new partner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Complete task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ank partner and say good bye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Repeat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2: Teams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Heterogeneously grouping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houlder &amp; Face Partners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Groups of 3 or 5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eam Name &amp; Team Celebrations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Change in 6 weeks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6172200" y="838080"/>
            <a:ext cx="838080" cy="10670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1905120"/>
            <a:ext cx="838080" cy="10666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7009920" y="838080"/>
            <a:ext cx="838440" cy="10670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1905120"/>
            <a:ext cx="838440" cy="10666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2514600"/>
            <a:ext cx="304920" cy="380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7467120" y="914400"/>
            <a:ext cx="304920" cy="380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590920"/>
            <a:ext cx="304560" cy="380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6171840" y="914400"/>
            <a:ext cx="304920" cy="380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PIGS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empus Sans ITC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Activity - Solo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empus Sans ITC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Activity - Group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empus Sans ITC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Activity - Cooperative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6:20:55Z</dcterms:created>
  <dc:creator>computer</dc:creator>
  <dc:description/>
  <dc:language>en-US</dc:language>
  <cp:lastModifiedBy>CEC158</cp:lastModifiedBy>
  <dcterms:modified xsi:type="dcterms:W3CDTF">2009-10-09T11:06:58Z</dcterms:modified>
  <cp:revision>28</cp:revision>
  <dc:subject/>
  <dc:title>Slide 1</dc:title>
</cp:coreProperties>
</file>